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A93-847E-4D9A-86AD-02D638A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CB3-41DC-485D-AC45-959F1D1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30A-E9F7-42A2-9EA8-81272F5D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792-FA38-447F-8291-456FF2F0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B7F6-F018-421B-8C6B-8BA90616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75F8-8164-4E43-A710-E66792B7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6A4-B323-4520-8A5F-7ABCA65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AFFA-72AE-4BCF-B82E-6D9065F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579-B0A3-4861-B1E5-86DFD53F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BFAB-9E42-4D35-8B6E-AE9FC4AF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2A7A-3435-4556-BC2F-6D6D5496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18F-4418-4B74-97CC-027B51DF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2C8-472D-4236-98D3-E04F233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20C-3540-42B5-8D2C-6A2BB1E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8CBF-4AD0-4313-917A-0A595EA2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6409-C0D9-413D-95C5-3248BD2B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BA4-6051-4062-88A3-48B650AE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089-85BA-4D1F-AEA7-EA0906DB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F3D-D2A7-4AA7-8DEA-255C378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04D-AB50-4307-BF19-0327128D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AFB-2360-4377-8E29-1F6B2C9C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31D-C8F5-4314-9CB6-31CA3561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345-1434-4D02-8E62-FCE129F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639-7FE2-47A4-AB52-76AB8B5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E743-7173-4529-8A53-BE4FAF903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5734-E0A6-4109-BA3B-8A711FC645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b7"/>
                </a:solidFill>
                <a:latin typeface="Allegro BT"/>
              </a:rPr>
              <a:t>ALTE ROMANE  REALISTE INTERBELICE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43040" y="4162320"/>
            <a:ext cx="6228000" cy="9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Proba de evaluare a competenţelor digitale</a:t>
            </a:r>
            <a:r>
              <a:rPr b="1" lang="en-US" sz="1000" spc="-1" strike="noStrike">
                <a:solidFill>
                  <a:srgbClr val="ffffb7"/>
                </a:solidFill>
                <a:latin typeface="Arial Black"/>
              </a:rPr>
              <a:t> – document de lucru</a:t>
            </a:r>
            <a:endParaRPr b="1" lang="en-US" sz="1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0</cp:lastModifiedBy>
  <dcterms:modified xsi:type="dcterms:W3CDTF">2012-04-12T08:32:1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